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441-EFB4-4D85-B828-B5622DB7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52E-75C2-4A59-B54E-5DDE92D5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13B-FCE3-4E4C-A06C-5D9602F2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F68-515E-475A-A676-89E9B17A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20C-8E83-42F4-94E4-0E825C7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6BC-AD05-49ED-BACE-A9B27A84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EB9-1A0D-4F06-A6E1-B31047C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1CE-A786-4539-9D51-2A6A0B01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BC3-945D-4C6B-BEE1-DBB6ACE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1F2-B2FD-4B2B-8507-18BE619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B80-CB99-40F9-962B-C384250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ADD-8F3A-4CAF-AB07-57352185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DE8-2C26-469A-87F1-306BD17D0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35680" y="1697040"/>
            <a:ext cx="57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cc0066"/>
                </a:solidFill>
                <a:uFillTx/>
                <a:latin typeface="Arial"/>
              </a:rPr>
              <a:t>МАТЕМАТ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cc0066"/>
                </a:solidFill>
                <a:uFillTx/>
                <a:latin typeface="Arial"/>
              </a:rPr>
              <a:t>4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28560" y="14508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66"/>
                </a:solidFill>
                <a:uFillTx/>
                <a:latin typeface="Arial"/>
              </a:rPr>
              <a:t>ТРИ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началь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65880" y="549360"/>
            <a:ext cx="9465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ак правильно сказать: не вижу белый желток или не виж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елого желт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Сколько лет двадцатисемилетнему капитан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полке стояли детские книжки. Подбежала Жучка, взяла одн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 потом еще три книжки. Сколько книг она прочитал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Катится по столу колесо разноцветное. Один угол красны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другой желтый, третий зеленый и четвертый си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Когда колесо докатится до края стола, какой цвет мы увиди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шли две девочки в лес за грибами, а навстречу два мальч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колько всего детей шли в ле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Сидит на дереве волк. Идут два охотника, один с соба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другой без собаки. Кто первый убьет волка?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то будет с мухой, если она налетит на сосульк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817360" y="907920"/>
            <a:ext cx="49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Белых желтков не быв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а варианта ответа неправильные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799680" y="155736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Ответ - 27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96040" y="2565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Собаки книжек не читаю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50480" y="393372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У колеса нет углов)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73240" y="458136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В лес шли 2 девоч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448160" y="558972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Волки на деревьях не сидя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500360" y="6237360"/>
            <a:ext cx="32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Зимой мухи не летаю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5018760" y="23652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(Интеллектуальная разминк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477000" y="779400"/>
            <a:ext cx="813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Лжезагад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загадка, использующая пр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ложная альтернати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нимание слушателя уводится в сторо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помощью альтернативы "или-или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вершенно произвольно выраж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 один из предлагаемых отв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является вер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840" y="4863960"/>
            <a:ext cx="90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то написал "Мойдодыр" - Маршак или Михал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написал "Мойдодыр" - Маршак или Чуковск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0880" y="4156200"/>
            <a:ext cx="80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объяснения понятия детям предлагается отга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е аналогичные загадки (одна обычная, другая - "лже-") и срав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24784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704600" y="745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Л Ж Е З А Г А Д К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734880" y="6191280"/>
            <a:ext cx="18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990033"/>
                </a:solidFill>
                <a:latin typeface="Arial"/>
              </a:rPr>
              <a:t>(В первом случае – лжезагад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75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75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05480" y="115920"/>
            <a:ext cx="887148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енинг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итель предлагает вразброс обычные загадк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жезагадки, дети должны их угадывать и указывать их ти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колько будет 8 и 4: 11 или 12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Что растет не березе - яблоки или груш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лово "часы" - пишется как "чесы" или "чисы"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Кто быстрее плавает - утенок или цыплено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толица России - Москва или Минс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Какие звери живут в Африке - мамонты и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динозавры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колько в минуте секунд - 10 или 100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680" y="5656320"/>
            <a:ext cx="90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общение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жезагадка состоит из двух частей, вопр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(этим она похожа на обычную) и ответа, представляю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обой два варианта на выбор, причем оба варианта неправи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4320" y="326880"/>
            <a:ext cx="90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Работа в группах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- закрепление материала и тренировка в составлении лжезага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группе указывается тема, на которую должны быть придум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жезага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проводится с точки зрения правильности составл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я теме, учитывая оригинальность зага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тем для работы в группах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вотные, раст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ловек, продукты, транспорт, сказки, школа, наш 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-28080" y="4365720"/>
            <a:ext cx="918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одведение итогов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ожно вспомнить уроки по теме «Язык и фантазия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больше всего запомнилось? Что было наиболее интересн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не понравилось на уроках? Какие пожел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16:14Z</dcterms:created>
  <dc:creator>PK-07</dc:creator>
  <dc:description/>
  <dc:language>en-US</dc:language>
  <cp:lastModifiedBy>PK-22</cp:lastModifiedBy>
  <dcterms:modified xsi:type="dcterms:W3CDTF">2012-01-23T05:54:30Z</dcterms:modified>
  <cp:revision>8</cp:revision>
  <dc:subject/>
  <dc:title>Слайд 1</dc:title>
</cp:coreProperties>
</file>